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633-E972-4AD6-8A00-19A31949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A07-EDA5-4741-81AD-52E31023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C6C-9D40-427B-A9C4-C410F239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A42-1AF0-49D2-900F-9948AEB9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0CCC-2F28-4EBE-B565-F80A1862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919B-621D-488C-BFBD-19FC9415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CFEA-D021-4375-A944-49EC065E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3D98-E844-4D43-B658-22E8204E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514B-1D12-4515-954B-CA7EF73E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3444-0F6D-4643-B95D-38381949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3FDA-2D0F-446F-9A09-5D68C922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8AC-239E-4243-8942-CACC1FD0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7CD0-4F6A-49B3-BD0B-6E931F31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6844-3CB9-4237-880C-CBC0A27B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FC3B-80C4-4C90-BC08-255C99A7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DE6B-7AEB-497E-A063-543A9F20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ECC3-0EF0-463E-9C5D-657F2B5F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6615B-E9FE-4808-9BE3-D4DEFF26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A64E-007F-49E7-81C0-BB477FC8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555E-C5C0-4E9F-8A64-629BA1E0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523D-2AFC-4F2A-9FD9-6CE68038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9FC3-23F5-44A1-9967-43B29F45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A6C-D0CD-40FC-B4DB-A8CA1A7D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7110B-52BD-4561-AE33-3241D132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AA1F-BF93-4793-B7F3-86F54FCC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DE72-D851-4007-833D-050B55DF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DC5C-BD0E-47D8-87D4-66D85080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C92D-ECBF-402B-A8AF-E88C22DA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FE63-35D1-488C-B52E-40EC189D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D5C6-8A39-4A0F-A62D-8FF423E1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73FA-5F02-4171-865E-47F62F74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0CEC-1F12-4240-A61C-A1D124B4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8C00-A2D2-42F3-9B84-498C0E8E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FEA-EBF0-4A83-806A-72349F35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97751-A565-40A4-A862-1C78CA6A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021D7-DB4B-4C02-99DD-53ABC6CE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40AD1-1EC2-476B-85D6-F0245585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CC71-833B-4BFF-BEA9-44E9AC6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0037F-1922-42D4-A59D-37BF24E5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E085-94EE-4B9B-BBA9-EFD36361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A8175-EA27-41FA-9EE9-92AF692D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486C-5D75-4A64-90F9-2A5B3443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67B4-21C8-429A-BFF4-612B5A9D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E5318-D384-4041-9AFD-03241941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324-5FF2-4C84-9AAB-113F12AE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3DF32-7DF2-49FF-9059-153E9A1A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7E7E6-6607-4D95-ABD6-0D626EB3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B44FF-9960-4C19-AC99-6FE77698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7E1F-D77D-43E8-8BC5-46098B8C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CE5CC-CC78-45E5-9257-3D15ACA8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98E81-3170-4420-9656-CD305E13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0E195-E991-48C3-B357-14792432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84F45-B53B-4A3E-8C9C-D0ABFB19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CEE3F-57BB-40E3-8C0A-BFABC111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1BA16-027A-4F0A-99C1-286B9F96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200-F0EF-48C0-9ACF-9A90BB59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FDD7-FDB7-4B08-8E6D-67801D14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D30EF-1A30-4349-9C72-BA74B767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2A15B-D90B-444B-9AAF-FE192C2C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17B80-BF8F-4DAE-9C69-A9C7B3E1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7234-8855-4B42-AB8D-03567270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4F09C-5EA8-433B-BC0E-1F2818A9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82E67-EA57-4477-9268-DD47C996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FE6DC-DB90-416D-86E2-932D9380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504A2-4D33-4BE2-A1C3-579C193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CF8B6-CD00-4AE0-B35F-539C3399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7F3-37FC-4C8B-AE18-2197AB48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E9D33-4052-4596-BCDF-A541061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98749-6AD8-4D66-8BD0-95614410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203E9-FB14-428B-98FE-91D283C4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F8C3B-B9AA-4AEF-98C4-7D605F39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31D81-C3BC-4908-BBE1-B3BBC443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D5F6C-98B7-44D0-907B-D0A82E35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73265-8926-4150-A494-F8BB4DD4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86ECA-5144-4B58-ACF5-545A5EAF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76430-ADA9-4721-B9DA-289EA1AA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B3B3F-30A4-4115-A382-DE0CC915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E3D-F25B-49EB-8FDA-BE94B032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3E986-32D2-4480-BDAD-B7F6BCD0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0D62C-9C33-4DA7-AD4F-1BF02B9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AFBC0-F0B9-43AB-83ED-4520CC86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3B520-6008-4CC6-8072-E08C3A19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6A00A-153F-4121-BBB3-D56CD981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F1267-F88D-482D-BAB2-3FFB43F6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53247-8158-4FAB-8B5E-351677D9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F5A73-9C5D-4FE6-8C95-B4147ADE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164A0-8D01-4C30-9075-CD1B1138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D8544-7021-4F9E-8691-696D4344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C5B-5101-4F52-8296-525782AF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C5EAE-D0ED-4D97-B804-D36FF71C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A8CE0-9AFD-4AE5-B1D3-6D1034E4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4829-8A4A-41C0-ADA2-16E6E4B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27B40-42E7-4D8D-B3AA-D76507D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B1C52-2070-47DF-B1F9-E494A1D3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4AAC5-0918-4B59-ABC6-FD468A54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C1BF7-8D9E-4B61-A933-BAC67EAE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DA42-92D3-4812-90C3-69CE417A904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B2EA-CCC6-4EE2-B26D-79D7C13DFF8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E3A0-B1A6-4925-B501-1F162E2A5D9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4E69-508F-485C-9ED1-396F1226935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D667-7C2B-4B4A-B33F-A99123B1174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6CFB-F05A-48DE-BB94-449E315FB05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7304-F1F7-43E9-AC17-29173DA3F3D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584A-C3B7-48D4-B582-833E2A7E63B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4"/>
          <p:cNvSpPr/>
          <p:nvPr/>
        </p:nvSpPr>
        <p:spPr>
          <a:xfrm>
            <a:off x="500040" y="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Образ России</a:t>
            </a:r>
            <a:br>
              <a:rPr sz="4800"/>
            </a:b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в лирике С.Есен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142920" y="5786280"/>
            <a:ext cx="90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ыполнила: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ександрова Дарья Иван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ченица 9 «Б»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1"/>
          <a:stretch/>
        </p:blipFill>
        <p:spPr>
          <a:xfrm>
            <a:off x="1785960" y="1571760"/>
            <a:ext cx="5500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1"/>
          <p:cNvSpPr/>
          <p:nvPr/>
        </p:nvSpPr>
        <p:spPr>
          <a:xfrm>
            <a:off x="500040" y="285840"/>
            <a:ext cx="8286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Образ России в поздней лирике поэ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142920" y="714240"/>
            <a:ext cx="885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Поэт едет на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Кавказ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где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ишет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лирические стихотворения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о красоте и экзотике окружающего мира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но мысли о России  не покидают его и здесь. </a:t>
            </a:r>
            <a:br>
              <a:rPr sz="2800"/>
            </a:b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Он все время рвется домой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вспоминает тоску бесконечных равнин, вербы вдоль дорог, бесплодные поля, жалкие лачуги. Так возникает картина старой деревни, которая не радует взгл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5357880" y="4714920"/>
            <a:ext cx="3645000" cy="201276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9"/>
          <p:cNvSpPr/>
          <p:nvPr/>
        </p:nvSpPr>
        <p:spPr>
          <a:xfrm>
            <a:off x="4429080" y="621504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2"/>
          <p:cNvSpPr/>
          <p:nvPr/>
        </p:nvSpPr>
        <p:spPr>
          <a:xfrm>
            <a:off x="142920" y="714240"/>
            <a:ext cx="885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Есенин воспевает синие озёра, малиновую ширь полей, жёлтые дороги, седые вер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Он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создаёт зримые образы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заросшего пруда, поля,  белого сада. Синий цвет- символ свободы; возвышение роли России до небес; золотой- золотые купола, рожь,  бескрайние по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Есенин также использует красный,  чёрный и белый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Цветопись в произведениях поэ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357880" y="4309920"/>
            <a:ext cx="3614760" cy="240048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9"/>
          <p:cNvSpPr/>
          <p:nvPr/>
        </p:nvSpPr>
        <p:spPr>
          <a:xfrm>
            <a:off x="4429080" y="621504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0" y="85716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В ходе проделанной работы удалось проследить, что на протяжении всего своего творчества Сергея Есенина облик России менялся, но тема оставалась неизм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Творчество Есенина - одна  из ярких, глубоко волнующих страниц истории русской поэзии, наполненная любовью к красоте родной зем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Результат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167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142920" y="214200"/>
            <a:ext cx="878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Только истинный патриот может так трепетно относиться к своей Родине  и быть вместе с ней в дни ее трудов и бедствий, а не только в дни побед и торжест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Уйдя из жизни в 30 лет, С.А. Есенин оставил нам чудесное и богатое поэтическое наследие. И пока живёт земля, Есенину-поэту суждено жить с нами и «воспевать всем существом в поэте шестую часть земли с названьем кратким «Рус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5286240" y="4572000"/>
            <a:ext cx="37148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285840" y="928800"/>
            <a:ext cx="864396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5160"/>
                </a:solidFill>
                <a:latin typeface="Constantia"/>
              </a:rPr>
              <a:t>az.lib.ru/e/esenin_s.../text_0460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Читаем.Думаем.Спорим: Кн. для самостоят. работы учащихся по лит.: 9 кл./ Авт.-сост. Г.И.Беленький и др.; Под ред. Г.И.Беленького. – М.: Просвещение; Учебная литература, 1996. – 336 с.// С.А. Ес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5160"/>
                </a:solidFill>
                <a:latin typeface="Constantia"/>
              </a:rPr>
              <a:t>http://www.sesenin.ru/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(О писате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5160"/>
                </a:solidFill>
                <a:latin typeface="Constantia"/>
              </a:rPr>
              <a:t>http://slova.org.ru/esenin/index/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(Стихотвор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714240" y="28584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Использованные источник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357120" y="25002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nstantia"/>
              </a:rPr>
              <a:t>Спасибо за вним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71680" y="428760"/>
            <a:ext cx="74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План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285840" y="1500120"/>
            <a:ext cx="86439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8119"/>
                </a:solidFill>
                <a:uFillTx/>
                <a:latin typeface="Constantia"/>
                <a:hlinkClick r:id="rId1" action="ppaction://hlinksldjump"/>
              </a:rPr>
              <a:t>Ц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8119"/>
                </a:solidFill>
                <a:uFillTx/>
                <a:latin typeface="Constantia"/>
                <a:hlinkClick r:id="rId2" action="ppaction://hlinksldjump"/>
              </a:rPr>
              <a:t>Образ России в ранней лирике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8119"/>
                </a:solidFill>
                <a:uFillTx/>
                <a:latin typeface="Constantia"/>
                <a:hlinkClick r:id="rId3" action="ppaction://hlinksldjump"/>
              </a:rPr>
              <a:t>Образ России в годы зрелого творчества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Образ России в поздней лирике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Цветопись в произведениях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Результаты исследования образа России </a:t>
            </a:r>
            <a:br>
              <a:rPr sz="2800"/>
            </a:b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в творчестве Есен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4256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5160"/>
                </a:solidFill>
                <a:latin typeface="Constantia"/>
              </a:rPr>
              <a:t>проследить,  как менялся образ России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516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165160"/>
                </a:solidFill>
                <a:latin typeface="Constantia"/>
              </a:rPr>
              <a:t>на разных этапах творчества С. А. Есенина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5160"/>
                </a:solidFill>
                <a:latin typeface="Constantia"/>
              </a:rPr>
              <a:t>доказать, что данная тема оставалась основной в творчестве поэта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857160" y="35712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Цель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8215200" y="621504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143080" y="1357200"/>
            <a:ext cx="6834240" cy="5141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28584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"Моя лирика, - не без гордости говорил Есенин, - жива одной большой любовью, любовью к Родине. Чувство Родины - основное в моем творчеств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0" y="1071720"/>
            <a:ext cx="885816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В ранних, юношеских стихах автор предстаёт как </a:t>
            </a:r>
            <a:r>
              <a:rPr b="1" lang="ru-RU" sz="2400" spc="-1" strike="noStrike">
                <a:solidFill>
                  <a:srgbClr val="165160"/>
                </a:solidFill>
                <a:latin typeface="Constantia"/>
              </a:rPr>
              <a:t>пламенный патриот</a:t>
            </a: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. Тогдашние его представления о родной земле ещё совсем детс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165160"/>
                </a:solidFill>
                <a:latin typeface="Constantia"/>
              </a:rPr>
              <a:t>Родина для Есенина </a:t>
            </a: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– это село Константиново, где он родился, ближайшие окрестности села. «Рязанские поля, где мужики косили, где сеяли свой хлеб», стали его надёжной стартовой площадкой, колыбелью его поэз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5214960" y="3786120"/>
            <a:ext cx="3674880" cy="2889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142920" y="214200"/>
            <a:ext cx="90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Образ России в ранней лирике поэ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214200" y="285840"/>
            <a:ext cx="871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рирода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– это чудесный и необъятный храм, в котором всё прекрасно. Она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одлинный герой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ранней поэзии Есенина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Любовью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к земле, к лугам и травам, лесам и озёрам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роникнуты строки многих юношеских стихов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. Его лучшие ранние стихи пахнут весной, полны очаровательного задора и весе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4714920" y="3714840"/>
            <a:ext cx="42148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2"/>
          <p:cNvSpPr/>
          <p:nvPr/>
        </p:nvSpPr>
        <p:spPr>
          <a:xfrm>
            <a:off x="142920" y="0"/>
            <a:ext cx="90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рирода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у Есенина, подобно человеку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оет </a:t>
            </a:r>
            <a:br>
              <a:rPr sz="2800"/>
            </a:b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и плачет, грустит и радуется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. Многие его стихи - это поэмы о березе, которая стала своеобразным символом всего рус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Неброская, но трогательная, щемящая красота отличает есенинскую березку в "юбочке белой", которая остается непостижимо прекрасной в своем зеленом наряде. Сколько нежных и светлых чувств звучит в таких знакомых строчках поэ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5072040" y="3827520"/>
            <a:ext cx="3857760" cy="28875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9"/>
          <p:cNvSpPr/>
          <p:nvPr/>
        </p:nvSpPr>
        <p:spPr>
          <a:xfrm>
            <a:off x="4143240" y="614376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2060"/>
                </a:solidFill>
                <a:latin typeface="Constantia"/>
              </a:rPr>
              <a:t>Образ России в годы зрелого творчества поэ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42920" y="1214280"/>
            <a:ext cx="90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Несмотря на события 1917 года, поэт продолжает  воспевать неброскую красоту и удивительную прелесть российской природы.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Мы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видим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слышим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и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чувствуем краски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звуки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запахи  лесов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олей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лугов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. «Зимы седой», «в чаще звонкой», «поет тишина», «лунного хлеба златятся снопы», так он создает образ Род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5500800" y="4357800"/>
            <a:ext cx="34290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1"/>
          <p:cNvSpPr/>
          <p:nvPr/>
        </p:nvSpPr>
        <p:spPr>
          <a:xfrm>
            <a:off x="285840" y="642960"/>
            <a:ext cx="871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Наряду с произведениями гражданской, политической лирики, созданными Есениным в 1917—1918 годах, дыхание грозы коснулось и его стихотворений, полных тончайшего проникновения в </a:t>
            </a:r>
            <a:r>
              <a:rPr b="1" lang="ru-RU" sz="2400" spc="-1" strike="noStrike">
                <a:solidFill>
                  <a:srgbClr val="165160"/>
                </a:solidFill>
                <a:latin typeface="Constantia"/>
              </a:rPr>
              <a:t>мир русской природы</a:t>
            </a: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Я по первому снегу бре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В сердце ландыши вспыхнувших сил. …………………………………………………………………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Хороша ты, о белая глад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Греет кровь мою легкий мороз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Так и хочется к телу при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Обнаженные груди бере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4429080" y="621504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429160" y="4500720"/>
            <a:ext cx="35719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22:04:44Z</dcterms:created>
  <dc:creator>Admin</dc:creator>
  <dc:description/>
  <dc:language>en-US</dc:language>
  <cp:lastModifiedBy>студент</cp:lastModifiedBy>
  <dcterms:modified xsi:type="dcterms:W3CDTF">2001-12-31T22:27:09Z</dcterms:modified>
  <cp:revision>20</cp:revision>
  <dc:subject/>
  <dc:title>Слайд 1</dc:title>
</cp:coreProperties>
</file>